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B1C-7203-48D1-ACFC-A2288182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9B1-58B2-40D8-A7C3-053575F2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458A5-EECE-49D2-AB2F-F382C24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40F51-76F0-477B-B371-7A1058B3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E649E-01DA-46D3-A8CD-DEE9612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FB234-10FF-49C4-A923-5F9EF14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CBC4C-FD70-4780-B5F0-60B68190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4D42C-BC86-476F-9494-B3FEDEA0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5B743-E908-4474-985E-111D5DA9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3EE16-FC87-4B49-BBE3-1E98199D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94AC8-8413-41F7-8846-168F2D37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8E7C0-3FF4-49DF-ACB4-1608E2F3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282-9D13-4508-B749-CCA6FF7E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AFF82-30D8-4739-A5B1-0BEA9BA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122D9-42CB-4083-8E05-3B888238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17F4C-87E3-451A-9AD5-CB8924E3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C27CB-A92C-472A-8953-BD8D3E28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E459F-2348-4869-ADE7-1ED3DA81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CDF15-553B-4C91-99A7-0E969EF8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F8C56-BA48-4B33-91E3-88016267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E2846-19F0-40BD-B6B5-A195741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0752C-B114-4576-974B-215EF8D3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CA6E0-7BCC-40C7-9B73-231678CF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3F5-D243-44AE-AE57-20E91904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20820-6253-45AB-8F18-74C144B9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06496-C304-4F00-8B25-A75B5F9A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3B01A-4580-4C04-B1DC-7FB23C5D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E1A9-5653-4964-9505-550B5564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8417F-F793-4B0B-B76F-271B487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82F62-D0FF-407B-A321-048FA024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91B20-19D4-4717-9B1E-574E8901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F28A8-1CD1-4CAB-BE8E-22D125D0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11818-0477-42DA-8F83-03BB325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4A977-93AC-4DE8-9816-C6C482B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02EC-19E5-49EB-AA82-3693BFB7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CAC48-F30C-4935-9E33-D4471E3E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963E2-7484-4EB0-A9D4-6AA85F0C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C2539-6F8C-4627-AEB7-F435C4B3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ABE95-08DF-49E2-9576-9AA72CBB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B2E85-8DA2-45A1-835E-B862A8D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FBAC1-DB52-4FC8-9BB5-5FB4C780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5BE83-A0D2-4E03-A578-C0FA5365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4062F-733B-4268-883A-16678492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01241-5ACE-45DF-9BA9-318E903E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9804C-40BB-464E-9971-49F7229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5E48-2577-4351-97CE-F881896E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F4BFD-AA58-4783-8CCD-D646F803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8E563-67EA-429C-9156-C8D9137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90E5D-E2EC-4335-B2BF-666D5A7B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66E8F-9F05-4AF9-A4FA-7A2059D8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A1827-23EB-4183-BA15-9D3C69E5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0480-D77C-47E5-A9C8-F72B00A1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40E0-9920-4E51-9A2B-EF9544F6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5149-4EA6-4882-8FC5-FD42C88A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3F52-7D48-4277-8362-5CE9A93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0D96-D400-4B48-A3DB-5F47321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217-9AF7-4F71-98FA-91481B5D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31B-E3F6-4870-9262-7FDF3D63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8CF3-4C6C-4647-BC20-1067FF07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18D5-0902-4018-83A2-5884FC89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D35C-75DE-4721-979C-94B1A1A8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D986-32D3-4D39-AE1E-6295C032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A5DA4-CBE6-41A3-B742-A98F6D9C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C099-FCDF-42FE-BD40-311E287F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E5B9-B79B-4E7F-B23B-44E1B78D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989B-6ECC-42D1-AE3A-24B82DD2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487B-AB65-499B-88FE-CBB2E38B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1B2-DE86-45F0-BCEC-BB7EF5EC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DB61-1FF8-4832-96B8-C290B8DC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8A58-88D8-460C-ABAF-FF269B0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F157-A3FB-41E8-A141-F4B968C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D2C1-B9D8-4F62-8133-8B6E1D00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929A-9AB0-4900-AE5E-FA3D370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33DBF-0439-4EE8-8274-86314886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A6A5-850C-4C88-9644-9B82A916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FED9-FAA1-49C8-8A53-77F664A7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D9DA-65BA-4C8A-834E-0CE2C765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0324B-2E98-4236-BE47-999F6BD2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ADF-3122-42F8-B398-B6CBCD9D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53E3-389B-49EE-B65B-95AEA239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03DF-4C26-46B8-80EA-1BF7DDEE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436A-F815-44DB-B325-DDDEC141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1C443-DBF2-4393-A916-3921A53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880A-3A41-4DF7-A797-CED22E75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5B8A-BB61-42DC-BF09-C7660367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BFDC-E94A-410E-8645-33442B72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A38F-64FB-4478-960F-A7ED5221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8D13-9AE3-4C17-9528-6211B798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375DE-A35E-4721-9871-B52CE9D2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4EF-2C39-4A51-B817-362F90D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A72B0-364C-4DCE-8227-4B268239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29F8-E24A-409C-BFB9-D2D2037F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128E1-9474-4CEB-9720-16625444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CB76-AD39-4744-A1D6-0ECCC463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776E-5C36-4BA3-8C18-ADFA5370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C435-9DC6-4B1B-99FD-572BF841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23684-0950-4C4A-B953-6B421BB8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EC9B-11F0-4FEF-AF40-9207B4CE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61E9-7575-4D3A-91B0-307239E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0544C-15F7-4FA7-84D1-D5444D63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320-EFB5-4C3A-830A-5507DB9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283CE-467D-42AF-9828-0C872028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FFDA-5B8F-4E32-8C15-B77B2097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2ECAD-C3BF-4525-9B57-5520D746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D0C18-B145-4C4D-A71A-110DA19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1623A-F8A0-4683-8805-632D88B2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D1279-595F-4FFD-AC05-C2B16AC4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9F468-0808-49BD-92B9-05802E1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790C-8134-42BC-A7D0-24DFBFB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2D9D9-423A-433B-8652-CBD29513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5B9A1-E1C9-4E39-8F15-C35394D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092-C583-4BFB-B310-E0DDBE2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9C286-7337-405D-9E30-2695DFD4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37994-5260-4444-98B6-9A08EAD0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85A9-B111-4AE4-BB47-D0F264BD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066DF-99B9-43FE-A554-831DB25F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9755-A768-4542-B354-2F60713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D5C2B-4B2D-46A2-A3A4-30BC5B64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1A4DF-3343-4C8C-BC64-85BF59E3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F8915-B67B-41F9-9F6E-11AB9FE6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B56C4-A5FA-41C7-A789-CC87A10A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1F3F-2EF3-4B68-9895-BAB22272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BD3-519F-43A5-AF2F-59BB9DC9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5FC8C-D649-454D-916B-E0CEFFF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3D0C-0867-4BB4-AEDE-0FA568B1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E917-E349-45D2-BA41-AAF694A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8E497-A3CA-4B32-8F5B-72861F9B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D8843-629A-4DCA-B84C-F6176B62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DEB4-B3F1-494A-A2F4-643DEC93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61B0-6EBF-4E9C-9C4E-F15D156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BCCCE-BC6B-43D8-995F-2928EA73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35414-7AB0-49FD-8634-CF0AECAA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50D4E-8A7F-4F92-95AC-BC5BA1D5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427-A498-40E8-A0EC-B6359D1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9F365-33E2-48E5-8AE4-EDA0CAB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D2674-EB1F-4435-BF25-CBA44457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C6BB3-7528-4136-9443-49A878E4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4258A-67F4-4853-81E7-CBD8F4CF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4AE80-E0A5-4F40-BB3A-16705DE2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48288-45FC-4BDF-9947-6F868B94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7F4E1-CDE5-4660-9B5C-C222DCB3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0EFAB-0B54-4109-B199-C306AE22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F7461-10A1-4F0D-A75C-2F883FD4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D525C-60E9-4617-8037-0B41B123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138-EB04-4CA4-B423-05EBF1B4B7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12CF-DDC8-4A60-9246-5E4F6006A5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645-EEE9-49DF-B8C0-F18CB15978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ED56-19D7-413F-9C4A-AC16DE16B0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C35F-1FFE-485B-A369-9613944B13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14A2-CE60-49AD-BB8E-85F4DED791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E514-9F56-4DDC-8F82-A71A733F09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1BF9-B67C-4BCF-90B8-A84BA550BA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16E6-E2EF-4131-B7D9-7915E5B09B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9B15-6DBB-4BAF-85D7-C0A5DA28D8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DB9E-CDC3-4B6E-83A5-FFA94FDB08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BE51-4990-4B8F-AF8B-0D74C68441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3 V dôvere sa utiek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ôvere sa utiek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Pane Ježiš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úrkach žitia v tebe 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rýšu, pomoc najbliž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chrov príval upok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oďku moju k cieľu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rak zastrie výhľad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ovom pravdy do tmy sv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eťa svoje, Pane, chrá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mojej spásy hra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e Slovo – moja zbra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stvo ráč sám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laňou svojou zaštíť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zkostí zbav, hriechu pú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vôkol hustne t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ím vodcom, Pane, 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, čo treba k život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hojnosti mi dávaš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ľ i bolesť, samot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vojej sile preko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be plnosť svätosti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ňa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ak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remôc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rozí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riech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ma, Pane,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čisť, uzdrav, zbieľ jak sn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be moja ist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si jediný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ieb a vodu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vojom Slove dávaš 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, Pane, z vďa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e srdce dávam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len v tvojej blí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a môžem radov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59:07Z</dcterms:modified>
  <cp:revision>22</cp:revision>
  <dc:subject/>
  <dc:title>Je veľký náš Pán, on slávy je Kráľ Nech do všetkých strán  spev vrúcnych znie chvál.</dc:title>
</cp:coreProperties>
</file>